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144000" cy="6858000"/>
  <p:notesSz cx="6973888" cy="10109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271D1-67CB-48D2-BE49-24370098D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3AE2C-D47C-4500-A420-AE14B212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E73557-448A-44C4-BCED-5220A8CCFE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2FC960-A3A8-446F-B3EF-5DBD59CE13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7539BE-6D34-46A9-80D8-00E3B05958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CDFC14-F2AD-40A8-92C8-21D4E83505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EBAAE1-FF70-4EA3-9063-451FB0A5FD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9B8A0D-B04B-42A6-AC93-66E3240B89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CF96DB-4786-45E1-843E-FA75BBF97A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622C55-8D58-4371-BB7D-7F06C7470A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BDEA53-E767-471A-851A-3626BDADA3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00CFB20-87CB-47EE-9CDE-9EBCCC30C0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56F14-26E3-453F-8B59-0BFBBF52D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D47DC9-6457-433E-AB07-AAA5F94A35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9B759C-2867-4D71-85DA-140A4CABFE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683058-8212-4410-AD64-76C70460F2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092982-EBA9-4136-A5AC-A4F5D27229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940F2D-DE0C-4C5B-85C3-2FCACCD319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FF505F-16A6-4DD6-831B-8E35FBEB2F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86139D-13BA-4B0E-B92F-81801A5E08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3BC713-5396-42D8-BCC3-5FEA18C94B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07C505-0E3E-4AFA-B7A6-8B40DB46E7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CA519D-6EE5-461B-B5F7-7E8D0D46F3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2D1D6-36DA-4D4C-A831-350F8480D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2EF576-63BD-4BEE-81F8-2797EB3FD4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2362A7-97BE-41E4-A1B4-F12DBB5292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59A935-EBA5-41F0-A688-BDF69D3CB9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4C3C88-7B8F-4ECE-AC7D-C9CBF82CBD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E34364-75B1-4436-BB68-8273297222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A53CA2-8355-4FB9-861B-799644E7C2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8A974B-9C90-43D6-A726-DD92432F63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0991A3-8DDD-470E-B40D-4910A7CE80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CB7FBC-0718-48BB-9A1A-0894330772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960FBC-47C6-4FD9-BD8C-FB4E1CD578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1B422-D6B5-4CEE-9C7D-2F3C068F5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908A75-F260-444C-B151-405C0D1C45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44C4C9-7D7B-4638-8326-A382A3A787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D85A9F2-A818-487E-86D2-7BE3BB5B95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6B7B07-070A-4706-9497-F359F72C91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54E32B-359D-4408-B37A-56D3B60FCC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6CAEAE-D57E-4C01-AFA6-A135333E67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E18FE4-8EB6-4C9A-A6D3-226E603DED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601CBE-67A9-4AD1-8FC3-01B28EE25E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4B3FC6-88C6-4BCE-A050-D853515795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A8343E-FFE9-4030-8AF4-5A60282E7C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4CC4F-82BA-4558-8E89-C47CEE29E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06D915-B085-430E-B59F-A862C082E5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726255-1753-4345-A095-4D545ACE77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3E2210-DE46-4D95-9706-44A0DB691F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3912AD9-83A7-4111-8FA7-AAEF1B378D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F6957D-4F88-4179-92F8-4B72D9DF8C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90A6DB9-B621-405B-88A8-8500B3044A2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846054-222D-4213-8CCE-BC917C0BF8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3"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05EEB7-2F6C-4A3A-AB42-B00854ABAF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EB8967-5B50-4CF7-AC5E-489C7D9A95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47DC04-E7E9-4F66-BCA4-83218A7304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3DBF6-176A-416D-AECE-CE0076D95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3DCED30-EB20-45CA-9AC9-8EFF02ADC2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7CD7A6-92C1-482E-A73D-599ECBB2AC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006C8A-F346-4CC2-8411-29E98EE80A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B02895-15D5-48B3-8275-0C83E9C1DE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7B1A5B-FFA9-469F-BBDC-30C664BE83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F228EE8-2D54-4D6F-920F-507BBB42F62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0"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BBC075-22B7-4F26-8B5F-664DD14C31A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7552528-2B5A-4D0D-810E-986A811074C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2"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656E096-0A16-402E-ACD6-AFBD7F028A0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4"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3789AC3-A3ED-4546-8347-D0B15C3ED6E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B9335-BA40-4DD7-A69E-2C5A4968F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1AABAD-A2F5-40E4-96A0-F4CD040CC4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E77C6C-3B1C-418F-A07D-2B09C5451F7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18F1D0C-27D3-4164-A9C6-0AA61C3F6B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D68C07-3C80-478E-915B-32403FBB9B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43072E-6DA1-46CA-9D8C-58198D1E4F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42195F-3F54-4D5B-A195-074571CDD3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3"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00F43AA-85F4-47C2-8250-01B653CEE9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4121002-5FA6-4006-A7DB-5CC49BA4796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1"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109B48B-69E8-4870-8EF4-ACD627034A1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FA8D6-FABF-4BC7-B4AA-E5329CEBF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F56B3-7941-43A8-A171-DC5FCC1B9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11D22-EC92-478B-A2D1-994F41E17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035D0-B524-42A0-BF15-49307F72B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EFA14-3A46-4EFB-9445-17725B2F6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196D8-0592-423E-B4D0-BC1E4C567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F5B51-CD0A-4E11-A346-DC790144B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F6B24-9152-4AFA-A5B8-3DD3D1A33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0AEA8-1C8F-4F9B-9BB9-4D82766B8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BFF249-4F16-4929-A2FE-2993FF7B06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2C44A1-06A4-4230-8F25-769A9466ED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5B4AC-8EE7-4658-B8D7-B7A446EA58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0D8D1-3633-4CCB-A58A-E3DD96340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A4A682-436E-4F49-901F-24F9E99E2C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B56C6-09AD-416D-BB2E-107205892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4E4222-30C7-46D0-813F-615D86FF2C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810A65-D18D-4F31-95E5-04D77F434A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C7AF38-79DA-4354-BA74-50D0601D5C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D326D2-383E-4852-BC40-12681BF5E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5CDF8-2FDA-4C91-B8AA-4C60FD5232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EE58A2-18D0-4995-89D5-D2B3209D87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B78B3B-2A17-4DE7-AE9A-EA630E392D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DA13E9-C299-4A57-AFC7-F4A4761F5A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ECAA4F-AB92-49BC-A100-B63F979CBB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F4841A-73A4-4BE1-B952-A2A1AC9571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E6330-9E62-4BBC-A2C3-B8E249D66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170C17-BD44-4317-B5B3-0EAFDD5A04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17951-1D56-4CDF-9265-B4333F0AB0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7884AF-748F-47CB-B9F3-447A2A7B13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E2362A-9E75-4198-995C-2C579257A5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82B95-0786-41BB-B0C9-FF5CBAEF2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6C943-2D6C-4B82-AA44-0D1ED3ADE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C31DF6-C8F5-4EAC-905A-682AF76EAE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FA8283-F0F8-4AC8-9D80-4E58F8CB53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434D63-ABFE-408A-9325-A3678BDB76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D9A7F8-36A7-4EBE-AB79-B9A8218DC9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0C036-6993-4222-9720-B2B554F28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265034-C16C-47E4-ACDB-FDF5910031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98457D-6761-4781-89BC-BD727D70A9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8BAB20-B09D-45C6-A1B3-9201C3D620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62E891-C747-4636-B3AC-47F95EA5C2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5623F1-3639-48C3-823F-6A7E0CDF85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7A3515-47C2-4BE4-B6DD-B4DD15E73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FE9279-DA3C-4FC4-AD01-5454C9122B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58D083-B402-4F05-B622-6B5CBE082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B9C6E-7B7A-4989-B744-C90AB1F9A4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0EAB81-01C8-497D-AB26-CD001F98EA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60E9B-F7CB-4117-B9D3-AA7B57F5E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B3FFF7-BC15-44E1-9BE7-20202BA9A2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E4C488-1D46-46BF-AE13-B7A15BAF75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FF88BF-B70F-49C4-8359-94752A33C4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4CCC3F-9594-4071-9997-E0BF64F913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DB571B-8D50-48CD-98A1-7CABAE663D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59C60D-D064-42FB-84BF-B6EDD10F86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0A77AB-D343-4CFF-A491-ABFB831754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AAF84F-476D-4C49-9647-32ED8B57D7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873C4B-E4E6-4435-97BF-A7312C215F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B019C-EE84-4FE3-92AE-3C2F0F1B46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421F6-6D4E-49D7-905D-3CFAFE3CE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B64C0C-1C92-4CF9-BA71-5F7F3C4634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A6E4A6-E050-4C16-8EE4-FA5653FC34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3555CD-9DFB-4C66-A767-C4ED9CEF1C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7C625F-A8CC-4EEE-95FC-45B2E3018D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CB55DD-D5C9-4907-8AF8-4A55B77291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DDD2C3-B295-4448-81A2-61E8757ACF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D464F4-C43A-478C-8771-0F7A25ED40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C3DFA1-CAA3-41C0-80B5-01C55C5128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88839C-F7C4-45E8-9B2E-369438B772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48C39-7C70-4867-8135-0078FF032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8EAAD-D88B-448E-92C0-64A58BEFA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9CB903-7796-4C89-8AB5-EC1C0BA1C0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97619B-899F-4437-AF11-5EFC49E643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C50F36-3175-49A7-802D-75102AA05E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9F63BF-D808-4852-AEA0-6B294E1EBE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29CBFC-360C-4DFF-96D4-9B3FD0412A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3441EE-0D17-4B0B-B02D-50A4E84F3F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4B102D-9F4E-40B3-8A46-2155832122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B0F9BE-3747-44D5-8504-753B8F1C3D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9A9E7B-09CE-4F22-9105-547A5D1FB5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185A12-A885-4408-BD6E-F21DB50B5A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2845F-135B-4D8F-8687-557E64FD0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D62413-4531-4F07-9141-C79BB433A1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87DE98-6AA5-4574-800B-CF94301A4A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CC19D1-C277-4CDA-8D37-23F4F6A342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4EFA01-04F1-4F10-A503-50E405388C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9899EB-0E93-404C-BE13-6BD986AE96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712DD2-6743-416F-9009-9581AC9CBD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A9A834-D4AF-4777-A36C-C842FC43AB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F83855-4DCC-483E-9B98-C9C83E1DDE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9690FC-6D77-44CF-8295-4D609FE018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2BCD2A-7A40-4FB9-9123-003EF0B7A69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AutoShape 4"/>
          <p:cNvSpPr/>
          <p:nvPr/>
        </p:nvSpPr>
        <p:spPr>
          <a:xfrm>
            <a:off x="609480" y="129528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3" name="Line 5"/>
          <p:cNvSpPr/>
          <p:nvPr/>
        </p:nvSpPr>
        <p:spPr>
          <a:xfrm>
            <a:off x="611280" y="6597720"/>
            <a:ext cx="792468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E713-30E8-4B13-A95B-B70FB570DA03}"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73"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040A-92F9-4475-BF03-DF377DF7C0AC}"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14"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E31D-033D-413C-AE8D-37993B4C2959}"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5"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6"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45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458"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8D72-C2A8-4334-A35C-FCA40978F772}"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96"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97"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499"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2B21-2CEC-46CC-9B7B-E37F89E0A60A}"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7"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38" name="PlaceHolder 3"/>
          <p:cNvSpPr>
            <a:spLocks noGrp="1"/>
          </p:cNvSpPr>
          <p:nvPr>
            <p:ph type="dt" idx="40"/>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53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540" name="PlaceHolder 5"/>
          <p:cNvSpPr>
            <a:spLocks noGrp="1"/>
          </p:cNvSpPr>
          <p:nvPr>
            <p:ph type="sldNum" idx="4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47B8-F9B5-44B9-ACB3-1390273CACDD}"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4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C0EA-464D-4139-91AC-0352B11CF657}"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6"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17BD-28E6-4E89-931A-1B072F07956D}"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27"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5E3D-3BB7-4ED8-B389-8BD644B28FC4}"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68"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4966-7EA1-4AF1-A7F8-571063BE2CA8}"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09"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CA1B-287A-4169-91D6-8084B0D0E599}"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50"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297A-F977-4DD5-8018-946661626E90}"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91"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2B8B-DBEC-4F0D-8046-D67EB3902A14}"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32"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9A81-1672-40C5-812C-21C1D6E03DCD}" type="slidenum">
              <a:rPr b="0" lang="es-P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Rectangle 2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578" name="Rectangle 26"/>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579" name="Rectangle 27"/>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580" name="Rectangle 28"/>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grpSp>
        <p:nvGrpSpPr>
          <p:cNvPr id="581" name="Group 5"/>
          <p:cNvGrpSpPr/>
          <p:nvPr/>
        </p:nvGrpSpPr>
        <p:grpSpPr>
          <a:xfrm>
            <a:off x="611280" y="476280"/>
            <a:ext cx="7992720" cy="792000"/>
            <a:chOff x="611280" y="476280"/>
            <a:chExt cx="7992720" cy="792000"/>
          </a:xfrm>
        </p:grpSpPr>
        <p:grpSp>
          <p:nvGrpSpPr>
            <p:cNvPr id="582" name="Group 6"/>
            <p:cNvGrpSpPr/>
            <p:nvPr/>
          </p:nvGrpSpPr>
          <p:grpSpPr>
            <a:xfrm>
              <a:off x="611280" y="476280"/>
              <a:ext cx="1024560" cy="792000"/>
              <a:chOff x="611280" y="476280"/>
              <a:chExt cx="1024560" cy="792000"/>
            </a:xfrm>
          </p:grpSpPr>
          <p:pic>
            <p:nvPicPr>
              <p:cNvPr id="583" name="Picture 7" descr="http://www.peruembassy-uk.com/Images/Escudo.gif"/>
              <p:cNvPicPr/>
              <p:nvPr/>
            </p:nvPicPr>
            <p:blipFill>
              <a:blip r:embed="rId1">
                <a:lum bright="12000"/>
              </a:blip>
              <a:stretch/>
            </p:blipFill>
            <p:spPr>
              <a:xfrm>
                <a:off x="611280" y="605520"/>
                <a:ext cx="1024560" cy="662760"/>
              </a:xfrm>
              <a:prstGeom prst="rect">
                <a:avLst/>
              </a:prstGeom>
              <a:ln w="0">
                <a:noFill/>
              </a:ln>
            </p:spPr>
          </p:pic>
          <p:sp>
            <p:nvSpPr>
              <p:cNvPr id="584" name="WordArt 8"/>
              <p:cNvSpPr txBox="1"/>
              <p:nvPr/>
            </p:nvSpPr>
            <p:spPr>
              <a:xfrm>
                <a:off x="708120" y="476280"/>
                <a:ext cx="774360" cy="258480"/>
              </a:xfrm>
              <a:prstGeom prst="rect">
                <a:avLst/>
              </a:prstGeom>
            </p:spPr>
            <p:txBody>
              <a:bodyPr wrap="none" fromWordArt="1" lIns="90000" rIns="90000" tIns="46800" bIns="46800" anchor="t" anchorCtr="1">
                <a:prstTxWarp prst="textArchUp">
                  <a:avLst>
                    <a:gd name="adj" fmla="val 1137261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9360">
                      <a:solidFill>
                        <a:srgbClr val="000000"/>
                      </a:solidFill>
                      <a:miter/>
                    </a:ln>
                    <a:gradFill rotWithShape="0">
                      <a:gsLst>
                        <a:gs pos="0">
                          <a:srgbClr val="aaaaaa"/>
                        </a:gs>
                        <a:gs pos="100000">
                          <a:srgbClr val="ffffff"/>
                        </a:gs>
                      </a:gsLst>
                      <a:lin ang="5400000"/>
                    </a:gradFill>
                    <a:latin typeface="Arial Unicode MS"/>
                  </a:rPr>
                  <a:t>REPUBLICA DEL PERU</a:t>
                </a:r>
                <a:endParaRPr b="1" i="1" lang="en-US" sz="800" spc="1" strike="noStrike">
                  <a:ln w="9360">
                    <a:solidFill>
                      <a:srgbClr val="000000"/>
                    </a:solidFill>
                    <a:miter/>
                  </a:ln>
                  <a:gradFill rotWithShape="0">
                    <a:gsLst>
                      <a:gs pos="0">
                        <a:srgbClr val="aaaaaa"/>
                      </a:gs>
                      <a:gs pos="100000">
                        <a:srgbClr val="ffffff"/>
                      </a:gs>
                    </a:gsLst>
                    <a:lin ang="5400000"/>
                  </a:gradFill>
                  <a:latin typeface="Arial Unicode MS"/>
                  <a:ea typeface="Arial Unicode MS"/>
                </a:endParaRPr>
              </a:p>
            </p:txBody>
          </p:sp>
        </p:grpSp>
        <p:sp>
          <p:nvSpPr>
            <p:cNvPr id="585" name="Rectangle 9"/>
            <p:cNvSpPr/>
            <p:nvPr/>
          </p:nvSpPr>
          <p:spPr>
            <a:xfrm>
              <a:off x="5870160" y="498960"/>
              <a:ext cx="2733840" cy="768960"/>
            </a:xfrm>
            <a:prstGeom prst="rect">
              <a:avLst/>
            </a:prstGeom>
            <a:solidFill>
              <a:srgbClr val="808080"/>
            </a:solidFill>
            <a:ln w="0">
              <a:noFill/>
            </a:ln>
          </p:spPr>
          <p:style>
            <a:lnRef idx="0"/>
            <a:fillRef idx="0"/>
            <a:effectRef idx="0"/>
            <a:fontRef idx="minor"/>
          </p:style>
          <p:txBody>
            <a:bodyPr lIns="79920" rIns="79920" tIns="39960" bIns="39960" anchor="ctr">
              <a:noAutofit/>
            </a:bodyPr>
            <a:p>
              <a:pPr>
                <a:lnSpc>
                  <a:spcPct val="100000"/>
                </a:lnSpc>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Dirección Nacional de</a:t>
              </a:r>
              <a:endParaRPr b="1" i="1" lang="en-US" sz="1200" spc="-1" strike="noStrike">
                <a:solidFill>
                  <a:srgbClr val="000000"/>
                </a:solidFill>
                <a:latin typeface="Arial Black"/>
              </a:endParaRPr>
            </a:p>
            <a:p>
              <a:pPr>
                <a:lnSpc>
                  <a:spcPct val="100000"/>
                </a:lnSpc>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Contabilidad Pública</a:t>
              </a:r>
              <a:endParaRPr b="1" i="1" lang="en-US" sz="1200" spc="-1" strike="noStrike">
                <a:solidFill>
                  <a:srgbClr val="000000"/>
                </a:solidFill>
                <a:latin typeface="Arial Black"/>
              </a:endParaRPr>
            </a:p>
          </p:txBody>
        </p:sp>
        <p:sp>
          <p:nvSpPr>
            <p:cNvPr id="586" name="Rectangle 10"/>
            <p:cNvSpPr/>
            <p:nvPr/>
          </p:nvSpPr>
          <p:spPr>
            <a:xfrm>
              <a:off x="3136320" y="498960"/>
              <a:ext cx="2733840" cy="768960"/>
            </a:xfrm>
            <a:prstGeom prst="rect">
              <a:avLst/>
            </a:prstGeom>
            <a:solidFill>
              <a:srgbClr val="404040"/>
            </a:solidFill>
            <a:ln w="0">
              <a:noFill/>
            </a:ln>
          </p:spPr>
          <p:style>
            <a:lnRef idx="0"/>
            <a:fillRef idx="0"/>
            <a:effectRef idx="0"/>
            <a:fontRef idx="minor"/>
          </p:style>
          <p:txBody>
            <a:bodyPr lIns="79920" rIns="79920" tIns="39960" bIns="39960" anchor="ctr">
              <a:noAutofit/>
            </a:bodyPr>
            <a:p>
              <a:pPr>
                <a:lnSpc>
                  <a:spcPct val="100000"/>
                </a:lnSpc>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Ministerio de</a:t>
              </a:r>
              <a:endParaRPr b="1" i="1" lang="en-US" sz="1200" spc="-1" strike="noStrike">
                <a:solidFill>
                  <a:srgbClr val="000000"/>
                </a:solidFill>
                <a:latin typeface="Arial Black"/>
              </a:endParaRPr>
            </a:p>
            <a:p>
              <a:pPr>
                <a:lnSpc>
                  <a:spcPct val="100000"/>
                </a:lnSpc>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Economía y Finanzas</a:t>
              </a:r>
              <a:endParaRPr b="1" i="1" lang="en-US" sz="1200" spc="-1" strike="noStrike">
                <a:solidFill>
                  <a:srgbClr val="000000"/>
                </a:solidFill>
                <a:latin typeface="Arial Black"/>
              </a:endParaRPr>
            </a:p>
          </p:txBody>
        </p:sp>
        <p:sp>
          <p:nvSpPr>
            <p:cNvPr id="587" name="Rectangle 11"/>
            <p:cNvSpPr/>
            <p:nvPr/>
          </p:nvSpPr>
          <p:spPr>
            <a:xfrm>
              <a:off x="1663920" y="498960"/>
              <a:ext cx="1565280" cy="768960"/>
            </a:xfrm>
            <a:prstGeom prst="rect">
              <a:avLst/>
            </a:prstGeom>
            <a:solidFill>
              <a:srgbClr val="cc0000"/>
            </a:solidFill>
            <a:ln w="0">
              <a:noFill/>
            </a:ln>
          </p:spPr>
          <p:style>
            <a:lnRef idx="0"/>
            <a:fillRef idx="0"/>
            <a:effectRef idx="0"/>
            <a:fontRef idx="minor"/>
          </p:style>
          <p:txBody>
            <a:bodyPr lIns="79920" rIns="79920" tIns="39960" bIns="39960" anchor="ctr">
              <a:noAutofit/>
            </a:bodyPr>
            <a:p>
              <a:pPr algn="ctr">
                <a:lnSpc>
                  <a:spcPct val="100000"/>
                </a:lnSpc>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PERÚ</a:t>
              </a:r>
              <a:endParaRPr b="1" i="1" lang="en-US" sz="1200" spc="-1" strike="noStrike">
                <a:solidFill>
                  <a:srgbClr val="000000"/>
                </a:solidFill>
                <a:latin typeface="Arial Black"/>
              </a:endParaRPr>
            </a:p>
          </p:txBody>
        </p:sp>
      </p:grpSp>
      <p:sp>
        <p:nvSpPr>
          <p:cNvPr id="588" name="Rectangle 25"/>
          <p:cNvSpPr/>
          <p:nvPr/>
        </p:nvSpPr>
        <p:spPr>
          <a:xfrm>
            <a:off x="5092560" y="6000840"/>
            <a:ext cx="3622680" cy="71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CPC. CARLOS SALAZAR</a:t>
            </a:r>
            <a:endParaRPr b="1" i="1" lang="en-US" sz="1400" spc="-1" strike="noStrike">
              <a:solidFill>
                <a:srgbClr val="0000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Lima,  Diciembre de 2010.</a:t>
            </a:r>
            <a:endParaRPr b="1" i="1" lang="en-US" sz="1400" spc="-1" strike="noStrike">
              <a:solidFill>
                <a:srgbClr val="000000"/>
              </a:solidFill>
              <a:latin typeface="Arial Black"/>
            </a:endParaRPr>
          </a:p>
        </p:txBody>
      </p:sp>
      <p:pic>
        <p:nvPicPr>
          <p:cNvPr id="589" name="17 Rectángulo" descr=""/>
          <p:cNvPicPr/>
          <p:nvPr/>
        </p:nvPicPr>
        <p:blipFill>
          <a:blip r:embed="rId2"/>
          <a:stretch/>
        </p:blipFill>
        <p:spPr>
          <a:xfrm>
            <a:off x="853920" y="2279520"/>
            <a:ext cx="7508880" cy="2743200"/>
          </a:xfrm>
          <a:prstGeom prst="rect">
            <a:avLst/>
          </a:prstGeom>
          <a:ln w="0">
            <a:noFill/>
          </a:ln>
        </p:spPr>
      </p:pic>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81"/>
                                        </p:tgtEl>
                                        <p:attrNameLst>
                                          <p:attrName>style.visibility</p:attrName>
                                        </p:attrNameLst>
                                      </p:cBhvr>
                                      <p:to>
                                        <p:strVal val="visible"/>
                                      </p:to>
                                    </p:set>
                                    <p:animEffect filter="strips(downRight)" transition="in">
                                      <p:cBhvr additive="repl">
                                        <p:cTn id="7" dur="2000"/>
                                        <p:tgtEl>
                                          <p:spTgt spid="5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89"/>
                                        </p:tgtEl>
                                        <p:attrNameLst>
                                          <p:attrName>style.visibility</p:attrName>
                                        </p:attrNameLst>
                                      </p:cBhvr>
                                      <p:to>
                                        <p:strVal val="visible"/>
                                      </p:to>
                                    </p:set>
                                    <p:animEffect filter="box(out)" transition="in">
                                      <p:cBhvr additive="repl">
                                        <p:cTn id="12" dur="5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B24F-928F-4FB4-AAB0-91B90D333FAF}"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sp>
        <p:nvSpPr>
          <p:cNvPr id="616" name="2 CuadroTexto"/>
          <p:cNvSpPr/>
          <p:nvPr/>
        </p:nvSpPr>
        <p:spPr>
          <a:xfrm>
            <a:off x="214200" y="181080"/>
            <a:ext cx="864396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ciones a seguir:</a:t>
            </a:r>
            <a:endParaRPr b="1" i="1" lang="en-US" sz="20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La DNCP del MEF en coordinación con FONAFE establecerán los procedimientos para el registro contable de las operaciones de las entidades y Empresas bajo su ámbito, que se deriven de la presente Ley, en estricto apego a los PCGA, vigentes aplicables</a:t>
            </a:r>
            <a:endParaRPr b="1" i="1" lang="en-US" sz="20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 La DNCP del MEF en coordinación con la SBN deberá efectuar una revisión de la Normatividad que regula los inventarios de activo fijos, a fin que las entidades cuente con la documentación que sustente los registros contables de este rubro.</a:t>
            </a:r>
            <a:endParaRPr b="1" i="1" lang="en-US" sz="20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Black"/>
            </a:endParaRPr>
          </a:p>
          <a:p>
            <a:pPr algn="just">
              <a:lnSpc>
                <a:spcPct val="100000"/>
              </a:lnSpc>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CGR en el marco de sus atribuciones establecerán los lineamientos pertinentes para que los órganos conformantes de sistema nacional de control en el ámbito de sus jurisdicción, revisen y evalúen los resultados de la depuración contable en aplicación de la presente Ley</a:t>
            </a:r>
            <a:endParaRPr b="1" i="1" lang="en-US" sz="2000" spc="-1" strike="noStrike">
              <a:solidFill>
                <a:srgbClr val="000000"/>
              </a:solidFill>
              <a:latin typeface="Arial Black"/>
            </a:endParaRPr>
          </a:p>
          <a:p>
            <a:pPr algn="just">
              <a:lnSpc>
                <a:spcPct val="100000"/>
              </a:lnSpc>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Black"/>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566280" y="304920"/>
            <a:ext cx="8008920" cy="5790960"/>
          </a:xfrm>
          <a:prstGeom prst="rect">
            <a:avLst/>
          </a:prstGeom>
          <a:noFill/>
          <a:ln w="0">
            <a:noFill/>
          </a:ln>
        </p:spPr>
        <p:txBody>
          <a:bodyPr anchor="t">
            <a:normAutofit/>
          </a:bodyPr>
          <a:p>
            <a:pPr marL="343080" indent="-343080" algn="just">
              <a:spcAft>
                <a:spcPts val="104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Articulo 4º.- De los plazos para el saneamiento de la información contable</a:t>
            </a:r>
            <a:endParaRPr b="0" lang="en-US" sz="2800" spc="-1" strike="noStrike">
              <a:solidFill>
                <a:srgbClr val="000000"/>
              </a:solidFill>
              <a:latin typeface="Arial"/>
            </a:endParaRPr>
          </a:p>
          <a:p>
            <a:pPr marL="343080" indent="-3430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Aft>
                <a:spcPts val="104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titulares de las entidades y empresas públicas así como la DNCP, FONAFE y la CGR informan a la Comisión  de  Presupuesto y Cuenta General de la República del Congreso de República los avances de la implementación establecida en el articulo 3º en el primer semestre del año 2011 y los resultados finales al culminar al dicho año.</a:t>
            </a:r>
            <a:endParaRPr b="0" lang="en-US" sz="2800" spc="-1" strike="noStrike">
              <a:solidFill>
                <a:srgbClr val="000000"/>
              </a:solidFill>
              <a:latin typeface="Arial"/>
            </a:endParaRPr>
          </a:p>
          <a:p>
            <a:pPr marL="343080" indent="-343080" algn="just">
              <a:spcAft>
                <a:spcPts val="104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1644-5930-4E54-BCF7-E7B490095D86}"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9B20-92AB-4A62-8A0F-3E1C575D04F5}"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sp>
        <p:nvSpPr>
          <p:cNvPr id="620" name="2 CuadroTexto"/>
          <p:cNvSpPr/>
          <p:nvPr/>
        </p:nvSpPr>
        <p:spPr>
          <a:xfrm>
            <a:off x="1000080" y="1785960"/>
            <a:ext cx="7000920" cy="3020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Black"/>
              </a:rPr>
              <a:t>RESOLUCION DIRECTORAL  </a:t>
            </a:r>
            <a:endParaRPr b="1" i="1" lang="en-US" sz="24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Black"/>
              </a:rPr>
              <a:t>Nº  044-2010-EF/77.15</a:t>
            </a:r>
            <a:endParaRPr b="1" i="1" lang="en-US" sz="24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Black"/>
              </a:rPr>
              <a:t>INCORPORAN RECURSOS DELFONDO DE COMPENSACION MUNICIPAL  (FONCOMUN)  EN LA CUENTA PRINCIPAL  DEL   TESORO PUBLICO</a:t>
            </a:r>
            <a:endParaRPr b="1" i="1" lang="en-US" sz="24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CA05-B9B0-432F-B89F-7669F713114A}"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sp>
        <p:nvSpPr>
          <p:cNvPr id="622" name="2 CuadroTexto"/>
          <p:cNvSpPr/>
          <p:nvPr/>
        </p:nvSpPr>
        <p:spPr>
          <a:xfrm>
            <a:off x="142920" y="571680"/>
            <a:ext cx="8715240" cy="606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Resolución Directoral Nº 044-2010-EF/77.15</a:t>
            </a:r>
            <a:endParaRPr b="1" i="1" lang="en-US" sz="28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INCORPORAN RECURSOS DEL FONDO DE COMPESACIÓN MUNICIPAL EN LA CUENTA PRINCIPAL DEL TESORO PUBLICO</a:t>
            </a:r>
            <a:endParaRPr b="1" i="1" lang="en-US" sz="20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RTICULO 1º A partir de diciembre del 2010 los recursos de FONCOMUN se  centralizan en la Cuenta  Principal del Tesoro Público y se sujetan al procedimiento establecido en la RD. Nº 013-08-EF/77.15 </a:t>
            </a:r>
            <a:endParaRPr b="1" i="1" lang="en-US" sz="24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án exceptuados de lo dispuesto en el párrafo anterior los montos del FONCOMUN que este comprometidos por las municipalidades para honrar las obligaciones de pago que mantenga con el Banco de la Nación así como los encargos de cobranza en virtud de contrato vigentes. </a:t>
            </a:r>
            <a:endParaRPr b="1" i="1" lang="en-US" sz="24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566280" y="304920"/>
            <a:ext cx="8008920" cy="5790960"/>
          </a:xfrm>
          <a:prstGeom prst="rect">
            <a:avLst/>
          </a:prstGeom>
          <a:noFill/>
          <a:ln w="0">
            <a:noFill/>
          </a:ln>
        </p:spPr>
        <p:txBody>
          <a:bodyPr anchor="t">
            <a:normAutofit/>
          </a:bodyPr>
          <a:p>
            <a:pPr marL="469800" indent="-469800"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469800" indent="-469800"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469800" indent="-469800"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000000"/>
                </a:solidFill>
                <a:latin typeface="Arial"/>
              </a:rPr>
              <a:t>La DNTP efectúan las transferencia de dicho montos exceptuados  a la respectiva Cuenta Central Recursos Determinado sobre la base de la información que remite el Banco de la Nación con indicación de la obligación contractuales y  encargos de cobranza de acuerdo al cronograma de vencimiento </a:t>
            </a:r>
            <a:endParaRPr b="0" lang="en-US" sz="2800" spc="-1" strike="noStrike">
              <a:solidFill>
                <a:srgbClr val="000000"/>
              </a:solidFill>
              <a:latin typeface="Arial"/>
            </a:endParaRPr>
          </a:p>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4"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5AE7-6AA1-4869-9090-6A21A93CD742}"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5071-37C1-45B2-BFB3-D91D40A1C726}"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sp>
        <p:nvSpPr>
          <p:cNvPr id="626" name="4 CuadroTexto"/>
          <p:cNvSpPr/>
          <p:nvPr/>
        </p:nvSpPr>
        <p:spPr>
          <a:xfrm>
            <a:off x="357120" y="714240"/>
            <a:ext cx="8501040" cy="594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rticulo 2º Traslado de fondos  a la Cuenta Central Recursos Determinados </a:t>
            </a:r>
            <a:endParaRPr b="1" i="1" lang="en-US" sz="2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recursos de la FF Recursos Determinados, de los Rubros 18 Canon y Sobrecanon y 07 FONCOMUN  depositados en el Bco. de  la Nación o en otras entidades del sistema financiero , serán transferidos a la Cuenta Central Recursos Determinados  hasta el 31 de diciembre de 2010 bajo responsabilidad del Director General de Administración o quien haga sus veces .</a:t>
            </a:r>
            <a:endParaRPr b="1" i="1" lang="en-US" sz="24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ceden  a liquidar las  cuentas bancarias  e instruyen directamente su cierre hasta el 30 de enero de 2011 e informan a la DNTP</a:t>
            </a:r>
            <a:endParaRPr b="1" i="1" lang="en-US" sz="24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Blac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endParaRPr b="1" i="1" lang="en-US" sz="1600" spc="-1" strike="noStrike">
              <a:solidFill>
                <a:srgbClr val="000000"/>
              </a:solidFill>
              <a:latin typeface="Arial Black"/>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E160-1E38-4936-8166-F50963A78722}"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sp>
        <p:nvSpPr>
          <p:cNvPr id="591" name="3 Marcador de contenido"/>
          <p:cNvSpPr/>
          <p:nvPr/>
        </p:nvSpPr>
        <p:spPr>
          <a:xfrm>
            <a:off x="500040" y="1428840"/>
            <a:ext cx="8001000" cy="3643200"/>
          </a:xfrm>
          <a:prstGeom prst="rect">
            <a:avLst/>
          </a:prstGeom>
          <a:noFill/>
          <a:ln w="0">
            <a:noFill/>
          </a:ln>
        </p:spPr>
        <p:style>
          <a:lnRef idx="0"/>
          <a:fillRef idx="0"/>
          <a:effectRef idx="0"/>
          <a:fontRef idx="minor"/>
        </p:style>
        <p:txBody>
          <a:bodyPr lIns="90000" rIns="90000" tIns="46800" bIns="46800" anchor="t">
            <a:noAutofit/>
          </a:bodyPr>
          <a:p>
            <a:pPr lvl="1" marL="641520" indent="-64152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a:rPr>
              <a:t>	</a:t>
            </a:r>
            <a:r>
              <a:rPr b="1" lang="es-CL" sz="2500" spc="-1" strike="noStrike">
                <a:solidFill>
                  <a:srgbClr val="000000"/>
                </a:solidFill>
                <a:latin typeface="Arial"/>
              </a:rPr>
              <a:t>Articulo 1º.- Objeto de la ley</a:t>
            </a:r>
            <a:endParaRPr b="1" i="1" lang="en-US" sz="2500" spc="-1" strike="noStrike">
              <a:solidFill>
                <a:srgbClr val="000000"/>
              </a:solidFill>
              <a:latin typeface="Arial Black"/>
            </a:endParaRPr>
          </a:p>
          <a:p>
            <a:pPr lvl="1" marL="641520" indent="-641520" algn="just">
              <a:lnSpc>
                <a:spcPct val="100000"/>
              </a:lnSpc>
              <a:spcBef>
                <a:spcPts val="62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blece el marco legal para dictar y aprobar normas y procedimientos que permitan armonizar la información contable de las entidades del sector público y del sector privado, así como, para elaborar las cuentas nacionales, la Cuenta General de la República, las cuentas fiscales y efectuar el planeamiento que corresponda</a:t>
            </a:r>
            <a:r>
              <a:rPr b="0" lang="es-ES" sz="2500" spc="-1" strike="noStrike">
                <a:solidFill>
                  <a:srgbClr val="000000"/>
                </a:solidFill>
                <a:latin typeface="Arial"/>
              </a:rPr>
              <a:t>.</a:t>
            </a:r>
            <a:endParaRPr b="1" i="1" lang="en-US" sz="2500" spc="-1" strike="noStrike">
              <a:solidFill>
                <a:srgbClr val="000000"/>
              </a:solidFill>
              <a:latin typeface="Arial Black"/>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566280" y="304920"/>
            <a:ext cx="8008920" cy="5790960"/>
          </a:xfrm>
          <a:prstGeom prst="rect">
            <a:avLst/>
          </a:prstGeom>
          <a:noFill/>
          <a:ln w="0">
            <a:noFill/>
          </a:ln>
        </p:spPr>
        <p:txBody>
          <a:bodyPr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DA3A-A772-4BBF-AAC1-6E7FDB94911C}"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sp>
        <p:nvSpPr>
          <p:cNvPr id="594" name="PlaceHolder 1"/>
          <p:cNvSpPr>
            <a:spLocks noGrp="1"/>
          </p:cNvSpPr>
          <p:nvPr>
            <p:ph type="title"/>
          </p:nvPr>
        </p:nvSpPr>
        <p:spPr>
          <a:xfrm>
            <a:off x="642600" y="356760"/>
            <a:ext cx="7929720" cy="607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LEY QUE ADECUA LA LEY Nº 28708, LEY GENERAL</a:t>
            </a:r>
            <a:br>
              <a:rPr sz="2800"/>
            </a:br>
            <a:br>
              <a:rPr sz="2800"/>
            </a:br>
            <a:r>
              <a:rPr b="1" lang="es-ES" sz="2800" spc="-1" strike="noStrike">
                <a:solidFill>
                  <a:srgbClr val="ff0000"/>
                </a:solidFill>
                <a:latin typeface="Arial"/>
              </a:rPr>
              <a:t> DEL SISTEMA NACIONAL DE CONTABILIDAD, AL </a:t>
            </a:r>
            <a:br>
              <a:rPr sz="2800"/>
            </a:br>
            <a:br>
              <a:rPr sz="2800"/>
            </a:br>
            <a:r>
              <a:rPr b="1" lang="es-ES" sz="2800" spc="-1" strike="noStrike">
                <a:solidFill>
                  <a:srgbClr val="ff0000"/>
                </a:solidFill>
                <a:latin typeface="Arial"/>
              </a:rPr>
              <a:t>ARTICULO 81º DE LA CONSTITUCION POLITICA DEL </a:t>
            </a:r>
            <a:br>
              <a:rPr sz="2800"/>
            </a:br>
            <a:br>
              <a:rPr sz="2800"/>
            </a:br>
            <a:r>
              <a:rPr b="1" lang="es-ES" sz="2800" spc="-1" strike="noStrike">
                <a:solidFill>
                  <a:srgbClr val="ff0000"/>
                </a:solidFill>
                <a:latin typeface="Arial"/>
              </a:rPr>
              <a:t>PERU   </a:t>
            </a:r>
            <a:br>
              <a:rPr sz="2800"/>
            </a:br>
            <a:br>
              <a:rPr sz="2800"/>
            </a:br>
            <a:r>
              <a:rPr b="1" lang="es-ES" sz="2800" spc="-1" strike="noStrike">
                <a:solidFill>
                  <a:srgbClr val="ff0000"/>
                </a:solidFill>
                <a:latin typeface="Arial"/>
              </a:rPr>
              <a:t>LEY Nº 29537</a:t>
            </a:r>
            <a:br>
              <a:rPr sz="2800"/>
            </a:br>
            <a:endParaRPr b="1" lang="en-US" sz="2800" spc="-1" strike="noStrike">
              <a:solidFill>
                <a:srgbClr val="000000"/>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4 Rectángulo redondeado"/>
          <p:cNvSpPr/>
          <p:nvPr/>
        </p:nvSpPr>
        <p:spPr>
          <a:xfrm>
            <a:off x="1000080" y="285840"/>
            <a:ext cx="7500960" cy="571320"/>
          </a:xfrm>
          <a:prstGeom prst="roundRect">
            <a:avLst>
              <a:gd name="adj" fmla="val 16667"/>
            </a:avLst>
          </a:prstGeom>
          <a:gradFill rotWithShape="0">
            <a:gsLst>
              <a:gs pos="0">
                <a:srgbClr val="ccddee"/>
              </a:gs>
              <a:gs pos="100000">
                <a:srgbClr val="f0f5fb"/>
              </a:gs>
            </a:gsLst>
            <a:lin ang="16200000"/>
          </a:gradFill>
          <a:ln w="9360">
            <a:solidFill>
              <a:srgbClr val="9fae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596" name="PlaceHolder 1"/>
          <p:cNvSpPr>
            <a:spLocks noGrp="1"/>
          </p:cNvSpPr>
          <p:nvPr>
            <p:ph type="title"/>
          </p:nvPr>
        </p:nvSpPr>
        <p:spPr>
          <a:xfrm>
            <a:off x="574200" y="356760"/>
            <a:ext cx="800100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LEY Nº 29401, MODIFICA LA LEY Nº 28708</a:t>
            </a:r>
            <a:r>
              <a:rPr b="1" lang="es-ES" sz="2400" spc="-1" strike="noStrike">
                <a:solidFill>
                  <a:srgbClr val="000000"/>
                </a:solidFill>
                <a:latin typeface="Arial"/>
              </a:rPr>
              <a:t> </a:t>
            </a:r>
            <a:endParaRPr b="1" lang="en-US" sz="2400" spc="-1" strike="noStrike">
              <a:solidFill>
                <a:srgbClr val="000000"/>
              </a:solidFill>
              <a:latin typeface="Arial"/>
            </a:endParaRPr>
          </a:p>
        </p:txBody>
      </p:sp>
      <p:sp>
        <p:nvSpPr>
          <p:cNvPr id="597" name=""/>
          <p:cNvSpPr txBox="1"/>
          <p:nvPr/>
        </p:nvSpPr>
        <p:spPr>
          <a:xfrm>
            <a:off x="566280" y="1213920"/>
            <a:ext cx="8001000" cy="6286680"/>
          </a:xfrm>
          <a:prstGeom prst="rect">
            <a:avLst/>
          </a:prstGeom>
          <a:noFill/>
          <a:ln w="0">
            <a:noFill/>
          </a:ln>
        </p:spPr>
        <p:txBody>
          <a:bodyPr anchor="t">
            <a:normAutofit/>
          </a:bodyPr>
          <a:p>
            <a:pPr lvl="1" marL="641520" indent="-641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endParaRPr b="0" lang="en-US" sz="2000" spc="-1" strike="noStrike">
              <a:solidFill>
                <a:srgbClr val="000000"/>
              </a:solidFill>
              <a:latin typeface="Arial"/>
            </a:endParaRPr>
          </a:p>
          <a:p>
            <a:pPr lvl="1" marL="641520" indent="-641520" algn="just">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	</a:t>
            </a:r>
            <a:r>
              <a:rPr b="1" lang="es-CL" sz="2000" spc="-1" strike="noStrike" u="sng">
                <a:solidFill>
                  <a:srgbClr val="000000"/>
                </a:solidFill>
                <a:uFillTx/>
                <a:latin typeface="Arial"/>
                <a:ea typeface="Arial"/>
              </a:rPr>
              <a:t>Art.1°</a:t>
            </a:r>
            <a:r>
              <a:rPr b="0" lang="es-CL" sz="2000" spc="-1" strike="noStrike">
                <a:solidFill>
                  <a:srgbClr val="000000"/>
                </a:solidFill>
                <a:latin typeface="Arial"/>
                <a:ea typeface="Arial"/>
              </a:rPr>
              <a:t> Adecuase la Ley N° 28708 al Art.  81° de la Constitución Política del Perú </a:t>
            </a:r>
            <a:r>
              <a:rPr b="0" lang="es-ES" sz="2000" spc="-1" strike="noStrike">
                <a:solidFill>
                  <a:srgbClr val="000000"/>
                </a:solidFill>
                <a:latin typeface="Arial"/>
                <a:ea typeface="Arial"/>
              </a:rPr>
              <a:t>que fue modificado por la Ley Nº 29401.</a:t>
            </a:r>
            <a:endParaRPr b="0" lang="en-US" sz="2000" spc="-1" strike="noStrike">
              <a:solidFill>
                <a:srgbClr val="000000"/>
              </a:solidFill>
              <a:latin typeface="Arial"/>
            </a:endParaRPr>
          </a:p>
          <a:p>
            <a:pPr lvl="1" marL="641520" indent="-641520" algn="just">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rt. 2°</a:t>
            </a:r>
            <a:r>
              <a:rPr b="1" lang="es-ES" sz="2000" spc="-1" strike="noStrike">
                <a:solidFill>
                  <a:srgbClr val="000000"/>
                </a:solidFill>
                <a:latin typeface="Arial"/>
              </a:rPr>
              <a:t> </a:t>
            </a:r>
            <a:r>
              <a:rPr b="0" lang="es-ES" sz="2000" spc="-1" strike="noStrike">
                <a:solidFill>
                  <a:srgbClr val="000000"/>
                </a:solidFill>
                <a:latin typeface="Arial"/>
              </a:rPr>
              <a:t>Modificación de los artículos 30, 31, 32, 33 y 34 de la Ley Nº 28708 en lo que se refiere a:</a:t>
            </a:r>
            <a:endParaRPr b="0" lang="en-US" sz="2000" spc="-1" strike="noStrike">
              <a:solidFill>
                <a:srgbClr val="000000"/>
              </a:solidFill>
              <a:latin typeface="Arial"/>
            </a:endParaRPr>
          </a:p>
          <a:p>
            <a:pPr lvl="1" marL="641520" indent="-641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1" lang="es-MX" sz="2000" spc="-1" strike="noStrike">
                <a:solidFill>
                  <a:srgbClr val="000000"/>
                </a:solidFill>
                <a:latin typeface="Arial"/>
              </a:rPr>
              <a:t>Art.30 Elaboración de la Cuenta General de la República</a:t>
            </a:r>
            <a:endParaRPr b="0" lang="en-US" sz="2000" spc="-1" strike="noStrike">
              <a:solidFill>
                <a:srgbClr val="000000"/>
              </a:solidFill>
              <a:latin typeface="Arial"/>
            </a:endParaRPr>
          </a:p>
          <a:p>
            <a:pPr lvl="1" marL="641520" indent="-641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30.2</a:t>
            </a:r>
            <a:r>
              <a:rPr b="0" lang="es-ES" sz="2000" spc="-1" strike="noStrike">
                <a:solidFill>
                  <a:srgbClr val="000000"/>
                </a:solidFill>
                <a:latin typeface="Arial"/>
              </a:rPr>
              <a:t> La Dirección Nacional de Contabilidad Pública remite la Cuenta General de la República a la Contraloría General de la República para ser auditada y a una Comisión Revisora del Congreso de la República, </a:t>
            </a:r>
            <a:r>
              <a:rPr b="1" lang="es-ES" sz="2000" spc="-1" strike="noStrike" u="sng">
                <a:solidFill>
                  <a:srgbClr val="000000"/>
                </a:solidFill>
                <a:uFillTx/>
                <a:latin typeface="Arial"/>
              </a:rPr>
              <a:t>en un plazo que vence el 20 de junio del año siguiente al ejercicio fiscal</a:t>
            </a:r>
            <a:r>
              <a:rPr b="1" lang="es-ES" sz="2000" spc="-1" strike="noStrike">
                <a:solidFill>
                  <a:srgbClr val="000000"/>
                </a:solidFill>
                <a:latin typeface="Arial"/>
              </a:rPr>
              <a:t> </a:t>
            </a:r>
            <a:r>
              <a:rPr b="0" lang="es-ES" sz="2000" spc="-1" strike="noStrike">
                <a:solidFill>
                  <a:srgbClr val="000000"/>
                </a:solidFill>
                <a:latin typeface="Arial"/>
              </a:rPr>
              <a:t>materia de rendición de cuentas </a:t>
            </a:r>
            <a:endParaRPr b="0" lang="en-US" sz="2000" spc="-1" strike="noStrike">
              <a:solidFill>
                <a:srgbClr val="000000"/>
              </a:solidFill>
              <a:latin typeface="Arial"/>
            </a:endParaRPr>
          </a:p>
          <a:p>
            <a:pPr lvl="1" marL="641520" indent="-641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1" lang="es-MX" sz="2000" spc="-1" strike="noStrike">
                <a:solidFill>
                  <a:srgbClr val="ff0000"/>
                </a:solidFill>
                <a:latin typeface="Arial"/>
              </a:rPr>
              <a:t>Antes vencía el 30 de Junio</a:t>
            </a:r>
            <a:endParaRPr b="0" lang="en-US" sz="2000" spc="-1" strike="noStrike">
              <a:solidFill>
                <a:srgbClr val="000000"/>
              </a:solidFill>
              <a:latin typeface="Arial"/>
            </a:endParaRPr>
          </a:p>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8"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24C0-0DA3-4E91-A024-2044F21D703B}"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9" name="4 Rectángulo redondeado"/>
          <p:cNvGrpSpPr/>
          <p:nvPr/>
        </p:nvGrpSpPr>
        <p:grpSpPr>
          <a:xfrm>
            <a:off x="1011240" y="103320"/>
            <a:ext cx="7188120" cy="542880"/>
            <a:chOff x="1011240" y="103320"/>
            <a:chExt cx="7188120" cy="542880"/>
          </a:xfrm>
        </p:grpSpPr>
        <p:pic>
          <p:nvPicPr>
            <p:cNvPr id="600" name="4 Rectángulo redondeado" descr=""/>
            <p:cNvPicPr/>
            <p:nvPr/>
          </p:nvPicPr>
          <p:blipFill>
            <a:blip r:embed="rId1"/>
            <a:stretch/>
          </p:blipFill>
          <p:spPr>
            <a:xfrm>
              <a:off x="1011240" y="103320"/>
              <a:ext cx="7188120" cy="542880"/>
            </a:xfrm>
            <a:prstGeom prst="rect">
              <a:avLst/>
            </a:prstGeom>
            <a:ln w="0">
              <a:noFill/>
            </a:ln>
          </p:spPr>
        </p:pic>
        <p:sp>
          <p:nvSpPr>
            <p:cNvPr id="601" name=""/>
            <p:cNvSpPr/>
            <p:nvPr/>
          </p:nvSpPr>
          <p:spPr>
            <a:xfrm>
              <a:off x="1092240" y="163440"/>
              <a:ext cx="703116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grpSp>
      <p:sp>
        <p:nvSpPr>
          <p:cNvPr id="602" name="PlaceHolder 1"/>
          <p:cNvSpPr>
            <a:spLocks noGrp="1"/>
          </p:cNvSpPr>
          <p:nvPr>
            <p:ph type="title"/>
          </p:nvPr>
        </p:nvSpPr>
        <p:spPr>
          <a:xfrm>
            <a:off x="856800" y="213840"/>
            <a:ext cx="8001000" cy="357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ff0000"/>
                </a:solidFill>
                <a:latin typeface="Arial"/>
                <a:ea typeface="Arial"/>
              </a:rPr>
              <a:t>LEY N° 29401, modifica la Ley N° 28708</a:t>
            </a:r>
            <a:endParaRPr b="1" lang="en-US" sz="2400" spc="-1" strike="noStrike">
              <a:solidFill>
                <a:srgbClr val="000000"/>
              </a:solidFill>
              <a:latin typeface="Arial"/>
            </a:endParaRPr>
          </a:p>
        </p:txBody>
      </p:sp>
      <p:sp>
        <p:nvSpPr>
          <p:cNvPr id="603" name=""/>
          <p:cNvSpPr txBox="1"/>
          <p:nvPr/>
        </p:nvSpPr>
        <p:spPr>
          <a:xfrm>
            <a:off x="566280" y="713880"/>
            <a:ext cx="8001000" cy="6000840"/>
          </a:xfrm>
          <a:prstGeom prst="rect">
            <a:avLst/>
          </a:prstGeom>
          <a:noFill/>
          <a:ln w="0">
            <a:noFill/>
          </a:ln>
        </p:spPr>
        <p:txBody>
          <a:bodyPr anchor="t">
            <a:normAutofit fontScale="99000"/>
          </a:bodyPr>
          <a:p>
            <a:pPr marL="464760" indent="-4647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Art. 31   Auditoría del Informe</a:t>
            </a:r>
            <a:endParaRPr b="0" lang="en-US" sz="2000" spc="-1" strike="noStrike">
              <a:solidFill>
                <a:srgbClr val="000000"/>
              </a:solidFill>
              <a:latin typeface="Arial"/>
            </a:endParaRPr>
          </a:p>
          <a:p>
            <a:pPr marL="464760" indent="-46476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	</a:t>
            </a:r>
            <a:r>
              <a:rPr b="1" lang="es-ES" sz="2000" spc="-1" strike="noStrike">
                <a:solidFill>
                  <a:srgbClr val="000000"/>
                </a:solidFill>
                <a:latin typeface="Arial"/>
                <a:ea typeface="Arial"/>
              </a:rPr>
              <a:t>31.2</a:t>
            </a:r>
            <a:r>
              <a:rPr b="0" lang="es-ES" sz="2000" spc="-1" strike="noStrike">
                <a:solidFill>
                  <a:srgbClr val="000000"/>
                </a:solidFill>
                <a:latin typeface="Arial"/>
                <a:ea typeface="Arial"/>
              </a:rPr>
              <a:t> La Contraloría General de la República encargada de realizar la auditoría a la Cuenta General de la República, emite el informe de auditoría señalado en el artículo 81 de la Constitución Política del Perú, el cual es presentado al Ministerio de Economía y Finanzas y a la Comisión Revisora del Congreso de la República, en un plazo que </a:t>
            </a:r>
            <a:r>
              <a:rPr b="1" lang="es-ES" sz="2000" spc="-1" strike="noStrike" u="sng">
                <a:solidFill>
                  <a:srgbClr val="000000"/>
                </a:solidFill>
                <a:uFillTx/>
                <a:latin typeface="Arial"/>
                <a:ea typeface="Arial"/>
              </a:rPr>
              <a:t>vence el 10 de agosto del año siguiente al del ejercicio fiscal.</a:t>
            </a:r>
            <a:endParaRPr b="0" lang="en-US" sz="2000" spc="-1" strike="noStrike">
              <a:solidFill>
                <a:srgbClr val="000000"/>
              </a:solidFill>
              <a:latin typeface="Arial"/>
            </a:endParaRPr>
          </a:p>
          <a:p>
            <a:pPr marL="464760" indent="-46476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Arial"/>
                <a:ea typeface="Arial"/>
              </a:rPr>
              <a:t>	</a:t>
            </a:r>
            <a:r>
              <a:rPr b="1" lang="es-MX" sz="2000" spc="-1" strike="noStrike">
                <a:solidFill>
                  <a:srgbClr val="ff0000"/>
                </a:solidFill>
                <a:latin typeface="Arial"/>
                <a:ea typeface="Arial"/>
              </a:rPr>
              <a:t>Antes vencía el 31 de agosto</a:t>
            </a:r>
            <a:endParaRPr b="0" lang="en-US" sz="2000" spc="-1" strike="noStrike">
              <a:solidFill>
                <a:srgbClr val="000000"/>
              </a:solidFill>
              <a:latin typeface="Arial"/>
            </a:endParaRPr>
          </a:p>
          <a:p>
            <a:pPr marL="464760" indent="-4647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Art. 32  Presentación</a:t>
            </a:r>
            <a:endParaRPr b="0" lang="en-US" sz="2000" spc="-1" strike="noStrike">
              <a:solidFill>
                <a:srgbClr val="000000"/>
              </a:solidFill>
              <a:latin typeface="Arial"/>
            </a:endParaRPr>
          </a:p>
          <a:p>
            <a:pPr marL="464760" indent="-46476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El Ministerio de Economía y Finanzas remite al Presidente de la República la Cuenta General de la República elaborada por la Dirección Nacional de Contabilidad Pública, acompañada del Informe de Auditoría de la Contraloría General de la República, para su presentación al Congreso de la República, en un plazo que </a:t>
            </a:r>
            <a:r>
              <a:rPr b="1" lang="es-ES" sz="2000" spc="-1" strike="noStrike" u="sng">
                <a:solidFill>
                  <a:srgbClr val="000000"/>
                </a:solidFill>
                <a:uFillTx/>
                <a:latin typeface="Arial"/>
                <a:ea typeface="Arial"/>
              </a:rPr>
              <a:t>vence el 15 de agosto del año siguiente al del ejercicio fiscal</a:t>
            </a:r>
            <a:r>
              <a:rPr b="1" lang="es-ES" sz="2000" spc="-1" strike="noStrike">
                <a:solidFill>
                  <a:srgbClr val="000000"/>
                </a:solidFill>
                <a:latin typeface="Arial"/>
                <a:ea typeface="Arial"/>
              </a:rPr>
              <a:t> </a:t>
            </a:r>
            <a:r>
              <a:rPr b="0" lang="es-ES" sz="2000" spc="-1" strike="noStrike">
                <a:solidFill>
                  <a:srgbClr val="000000"/>
                </a:solidFill>
                <a:latin typeface="Arial"/>
                <a:ea typeface="Arial"/>
              </a:rPr>
              <a:t>materia de rendición de cuentas.</a:t>
            </a:r>
            <a:endParaRPr b="0" lang="en-US" sz="2000" spc="-1" strike="noStrike">
              <a:solidFill>
                <a:srgbClr val="000000"/>
              </a:solidFill>
              <a:latin typeface="Arial"/>
            </a:endParaRPr>
          </a:p>
          <a:p>
            <a:pPr marL="464760" indent="-46476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Arial"/>
                <a:ea typeface="Arial"/>
              </a:rPr>
              <a:t>	</a:t>
            </a:r>
            <a:r>
              <a:rPr b="1" lang="es-MX" sz="2000" spc="-1" strike="noStrike">
                <a:solidFill>
                  <a:srgbClr val="ff0000"/>
                </a:solidFill>
                <a:latin typeface="Arial"/>
                <a:ea typeface="Arial"/>
              </a:rPr>
              <a:t>Antes vencía el 15 de noviembre</a:t>
            </a:r>
            <a:endParaRPr b="0" lang="en-US" sz="2000" spc="-1" strike="noStrike">
              <a:solidFill>
                <a:srgbClr val="000000"/>
              </a:solidFill>
              <a:latin typeface="Arial"/>
            </a:endParaRPr>
          </a:p>
          <a:p>
            <a:pPr marL="464760" indent="-4647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7557-6EE9-4490-8E20-DC504EFD0C86}"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4 Rectángulo redondeado"/>
          <p:cNvSpPr/>
          <p:nvPr/>
        </p:nvSpPr>
        <p:spPr>
          <a:xfrm>
            <a:off x="928800" y="214200"/>
            <a:ext cx="7500960" cy="500040"/>
          </a:xfrm>
          <a:prstGeom prst="roundRect">
            <a:avLst>
              <a:gd name="adj" fmla="val 16667"/>
            </a:avLst>
          </a:prstGeom>
          <a:gradFill rotWithShape="0">
            <a:gsLst>
              <a:gs pos="0">
                <a:srgbClr val="e2ebf5"/>
              </a:gs>
              <a:gs pos="100000">
                <a:srgbClr val="f6f9fd"/>
              </a:gs>
            </a:gsLst>
            <a:lin ang="16200000"/>
          </a:gradFill>
          <a:ln w="9360">
            <a:solidFill>
              <a:srgbClr val="c9d0d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
        <p:nvSpPr>
          <p:cNvPr id="606" name="PlaceHolder 1"/>
          <p:cNvSpPr>
            <a:spLocks noGrp="1"/>
          </p:cNvSpPr>
          <p:nvPr>
            <p:ph type="title"/>
          </p:nvPr>
        </p:nvSpPr>
        <p:spPr>
          <a:xfrm>
            <a:off x="571320" y="214200"/>
            <a:ext cx="8001000" cy="48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ff0000"/>
                </a:solidFill>
                <a:latin typeface="Arial"/>
                <a:ea typeface="Arial"/>
              </a:rPr>
              <a:t>LEY N° 29401, modifica la Ley N° 28708</a:t>
            </a:r>
            <a:endParaRPr b="1" lang="en-US" sz="2400" spc="-1" strike="noStrike">
              <a:solidFill>
                <a:srgbClr val="000000"/>
              </a:solidFill>
              <a:latin typeface="Arial"/>
            </a:endParaRPr>
          </a:p>
        </p:txBody>
      </p:sp>
      <p:sp>
        <p:nvSpPr>
          <p:cNvPr id="607" name=""/>
          <p:cNvSpPr txBox="1"/>
          <p:nvPr/>
        </p:nvSpPr>
        <p:spPr>
          <a:xfrm>
            <a:off x="499680" y="1000080"/>
            <a:ext cx="8001000" cy="5453280"/>
          </a:xfrm>
          <a:prstGeom prst="rect">
            <a:avLst/>
          </a:prstGeom>
          <a:noFill/>
          <a:ln w="0">
            <a:noFill/>
          </a:ln>
        </p:spPr>
        <p:txBody>
          <a:bodyPr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rt. 33  Examen y Dictamen</a:t>
            </a: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33.1</a:t>
            </a:r>
            <a:r>
              <a:rPr b="0" lang="es-ES" sz="2000" spc="-1" strike="noStrike">
                <a:solidFill>
                  <a:srgbClr val="000000"/>
                </a:solidFill>
                <a:latin typeface="Arial"/>
              </a:rPr>
              <a:t> La Cuenta General de la República y el Informe de Auditoría, recibidos por el Congreso de la República, se derivan a una Comisión Revisora, para el examen y dictamen correspondiente, </a:t>
            </a:r>
            <a:r>
              <a:rPr b="1" lang="es-ES" sz="2000" spc="-1" strike="noStrike" u="sng">
                <a:solidFill>
                  <a:srgbClr val="000000"/>
                </a:solidFill>
                <a:uFillTx/>
                <a:latin typeface="Arial"/>
              </a:rPr>
              <a:t>en el plazo que vence el 15 de octubre. </a:t>
            </a: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1" lang="es-MX" sz="2000" spc="-1" strike="noStrike">
                <a:solidFill>
                  <a:srgbClr val="ff0000"/>
                </a:solidFill>
                <a:latin typeface="Arial"/>
              </a:rPr>
              <a:t>Antes vencía a los noventa días calendario siguientes a su presentación</a:t>
            </a: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t. 34  Aprobación de la Cuenta General de la República </a:t>
            </a: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34.2</a:t>
            </a:r>
            <a:r>
              <a:rPr b="0" lang="es-ES" sz="2000" spc="-1" strike="noStrike">
                <a:solidFill>
                  <a:srgbClr val="000000"/>
                </a:solidFill>
                <a:latin typeface="Arial"/>
              </a:rPr>
              <a:t> La aprobación de la Cuenta General de la República se realiza en la siguiente secuencia: </a:t>
            </a: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El Pleno del Congreso de la República se pronuncia en un plazo que </a:t>
            </a:r>
            <a:r>
              <a:rPr b="1" lang="es-ES" sz="2000" spc="-1" strike="noStrike" u="sng">
                <a:solidFill>
                  <a:srgbClr val="000000"/>
                </a:solidFill>
                <a:uFillTx/>
                <a:latin typeface="Arial"/>
              </a:rPr>
              <a:t>vence el 30 de octubre</a:t>
            </a:r>
            <a:r>
              <a:rPr b="1" lang="es-ES" sz="2000" spc="-1" strike="noStrike">
                <a:solidFill>
                  <a:srgbClr val="000000"/>
                </a:solidFill>
                <a:latin typeface="Arial"/>
              </a:rPr>
              <a:t>. </a:t>
            </a:r>
            <a:endParaRPr b="0" lang="en-US" sz="2000" spc="-1" strike="noStrike">
              <a:solidFill>
                <a:srgbClr val="000000"/>
              </a:solidFill>
              <a:latin typeface="Arial"/>
            </a:endParaRPr>
          </a:p>
          <a:p>
            <a:pPr marL="469800" indent="-4698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ff0000"/>
                </a:solidFill>
                <a:latin typeface="Arial"/>
              </a:rPr>
              <a:t>Antes treinta (30) días calendario siguiente de recibido el dictamen de la Comisión Revisora</a:t>
            </a:r>
            <a:endParaRPr b="0" lang="en-US" sz="2000" spc="-1" strike="noStrike">
              <a:solidFill>
                <a:srgbClr val="000000"/>
              </a:solidFill>
              <a:latin typeface="Arial"/>
            </a:endParaRPr>
          </a:p>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3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B50A-BE60-4146-8A6B-1C954EE92702}"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9067-C8E2-4DF8-99A9-4BD853327B16}"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pic>
        <p:nvPicPr>
          <p:cNvPr id="610" name="2 CuadroTexto" descr=""/>
          <p:cNvPicPr/>
          <p:nvPr/>
        </p:nvPicPr>
        <p:blipFill>
          <a:blip r:embed="rId1"/>
          <a:stretch/>
        </p:blipFill>
        <p:spPr>
          <a:xfrm>
            <a:off x="414360" y="1255680"/>
            <a:ext cx="8369280" cy="352440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09BB-F18D-4CFD-8740-722A960F8D47}"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sp>
        <p:nvSpPr>
          <p:cNvPr id="612" name="2 Marcador de contenido"/>
          <p:cNvSpPr/>
          <p:nvPr/>
        </p:nvSpPr>
        <p:spPr>
          <a:xfrm>
            <a:off x="428760" y="428760"/>
            <a:ext cx="8138880" cy="58579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Arial"/>
              </a:rPr>
              <a:t>Artículo 3º .- Acciones de Saneamiento de la Información Contable    </a:t>
            </a:r>
            <a:r>
              <a:rPr b="1" lang="es-ES" sz="1900" spc="-1" strike="noStrike">
                <a:solidFill>
                  <a:srgbClr val="ff0000"/>
                </a:solidFill>
                <a:latin typeface="Arial"/>
              </a:rPr>
              <a:t>	</a:t>
            </a:r>
            <a:r>
              <a:rPr b="1" lang="es-ES" sz="1900" spc="-1" strike="noStrike">
                <a:solidFill>
                  <a:srgbClr val="ff0000"/>
                </a:solidFill>
                <a:latin typeface="Arial"/>
              </a:rPr>
              <a:t>        en el Sector Público </a:t>
            </a:r>
            <a:endParaRPr b="1" i="1" lang="en-US" sz="1900" spc="-1" strike="noStrike">
              <a:solidFill>
                <a:srgbClr val="000000"/>
              </a:solidFill>
              <a:latin typeface="Arial Black"/>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2400" spc="-1" strike="noStrike">
                <a:solidFill>
                  <a:srgbClr val="000000"/>
                </a:solidFill>
                <a:latin typeface="Arial"/>
              </a:rPr>
              <a:t>Dispónese que los Titulares de las entidades y empresas públicas bajo el ámbito del Fondo Nacional de Financiamiento de la Actividad Empresarial del Estado (FONAFE), a partir de la aprobación de la presente Ley, dictarán en sus respectivas jurisdicciones, bajo responsabilidad, la implementación de Acciones de Saneamiento de  la Información Contable, para lo cual las entidades realizan las gestiones administrativas necesarias con el objeto de depurar la información contable, de manera que los estados financieros expresen en forma fidedigna la realidad económica, financiera y patrimonial de las entidades públicas, sin perjuicio de los procedimientos especiales establecidos sobre la materia por Ley.</a:t>
            </a:r>
            <a:endParaRPr b="1" i="1" lang="en-US" sz="2400" spc="-1" strike="noStrike">
              <a:solidFill>
                <a:srgbClr val="000000"/>
              </a:solidFill>
              <a:latin typeface="Arial Black"/>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Black"/>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B1F9-844E-4311-9AA9-AE78593FF704}" type="slidenum">
              <a:rPr b="0" lang="es-PE" sz="1200" spc="-1" strike="noStrike">
                <a:solidFill>
                  <a:srgbClr val="000000"/>
                </a:solidFill>
                <a:latin typeface="Verdana"/>
              </a:rPr>
              <a:t>&lt;number&gt;</a:t>
            </a:fld>
            <a:endParaRPr b="1" i="1" lang="en-US" sz="1200" spc="-1" strike="noStrike">
              <a:solidFill>
                <a:srgbClr val="000000"/>
              </a:solidFill>
              <a:latin typeface="Arial Black"/>
            </a:endParaRPr>
          </a:p>
        </p:txBody>
      </p:sp>
      <p:sp>
        <p:nvSpPr>
          <p:cNvPr id="614" name="2 Rectángulo"/>
          <p:cNvSpPr/>
          <p:nvPr/>
        </p:nvSpPr>
        <p:spPr>
          <a:xfrm>
            <a:off x="285840" y="1143000"/>
            <a:ext cx="7929360" cy="3933360"/>
          </a:xfrm>
          <a:prstGeom prst="rect">
            <a:avLst/>
          </a:prstGeom>
          <a:noFill/>
          <a:ln w="0">
            <a:noFill/>
          </a:ln>
        </p:spPr>
        <p:style>
          <a:lnRef idx="0"/>
          <a:fillRef idx="0"/>
          <a:effectRef idx="0"/>
          <a:fontRef idx="minor"/>
        </p:style>
        <p:txBody>
          <a:bodyPr lIns="90000" rIns="90000" tIns="46800" bIns="46800" anchor="t">
            <a:spAutoFit/>
          </a:bodyPr>
          <a:p>
            <a:pPr marL="469800" indent="-469800"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rPr>
              <a:t>	</a:t>
            </a:r>
            <a:r>
              <a:rPr b="1" lang="es-ES" sz="2800" spc="-1" strike="noStrike">
                <a:solidFill>
                  <a:srgbClr val="000000"/>
                </a:solidFill>
                <a:latin typeface="Arial"/>
                <a:ea typeface="Arial"/>
              </a:rPr>
              <a:t>Para este fin, deberá establecerse  la existencia real de bienes, derechos y obligaciones, que afectan el patrimonio público, y reunir  la información y documentación suficiente y pertinente que acredite la realidad y existencia  de las  operaciones para proceder al establecimiento de los saldos de las cuentas objeto de depuración</a:t>
            </a:r>
            <a:endParaRPr b="1" i="1" lang="en-US" sz="2800" spc="-1" strike="noStrike">
              <a:solidFill>
                <a:srgbClr val="000000"/>
              </a:solidFill>
              <a:latin typeface="Arial Black"/>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20:11:30Z</dcterms:created>
  <dc:creator>Aldo Vallejo</dc:creator>
  <dc:description/>
  <dc:language>en-US</dc:language>
  <cp:lastModifiedBy>Lenovo User</cp:lastModifiedBy>
  <cp:lastPrinted>2004-07-15T16:43:21Z</cp:lastPrinted>
  <dcterms:modified xsi:type="dcterms:W3CDTF">2010-12-15T17:07:39Z</dcterms:modified>
  <cp:revision>868</cp:revision>
  <dc:subject/>
  <dc:title>Presentación de PowerPoint</dc:title>
</cp:coreProperties>
</file>